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47E00A-B921-4A93-9F6C-5556A89B47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428F14-7A77-41D0-B34C-B4FEBA96FF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084709-B288-461C-AEE8-85C4BB6014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57E169-0C8E-414E-9EDA-4048C4E64C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C538C54-4B4E-4298-AE4D-BFA740F98E6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E90D60-D460-4D2C-BBD4-8A0C3FADBB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E5D904-F410-4034-8696-2D4D0D0673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60E6AE-E263-4C33-B93F-093926E746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A05534-37F0-4905-823F-11D2116B4B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9F4ACA-6077-4CE2-8600-5838F1F782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6C8F5E-6885-4CF8-8012-7E66633CD9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101427-285C-44D6-B3EA-98D2C78848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547775-03AF-4F75-9F62-20A1DDBAD0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78553A-A048-44FB-B169-102F0F38E8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2B71F0-EC07-4D14-8A74-603F0F3AF2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560D9E2-7491-4CCE-B854-F5D9A105B0B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9ED649B-B3C9-45D5-BF0A-1686ED856C5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0CEF72-AD4C-4059-9308-4813692892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33BC9B-09E8-4FE8-BEB7-0F3B791815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32C442-6566-4692-A98C-E3F9160ECF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775571-3171-48F3-ABAF-0213BE0DB4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1CBF9E-BE33-4E3B-B97B-AF882F4FB0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0DB096-5329-4FB1-9034-D90C1DE7F8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45465C-E7B1-4B7D-8892-A46FB10462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C47EFB-E9C9-4852-B1FA-5D17BD8CCF6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6DEFCE-BEA6-449B-9788-1BA63460178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67F413F-D9E1-4AB3-B808-F4EF7D25A56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7EE7962-B612-4FAD-B466-2E0AF5C0447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AFA4C2-6A6E-4D6C-B2AB-C2351A298C7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2D0FC2-2E1F-4E09-B293-F4CF19F838C1}"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590EA8-9BBC-471C-8E16-8A37833BB9AE}"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400F4E-B0C4-48ED-AA89-B35B68211539}"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08363E-46AB-423E-A243-A673F9C92CE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E32FFF-AC04-41DC-A4BF-50399BAB184A}"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50C2AF-69AB-4966-B3E8-526D155499B1}"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96241F-C435-4700-B239-B832FFF9CC55}"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91CD25-9E57-48FB-94CC-F4462054EABC}"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38C311-4B0A-49DC-83BA-8828F917CC99}"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25FE03-D119-4F71-934A-F09C36C8C022}"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BABCE5-429E-4801-8FDE-BE1FE932672A}"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CBC9AB-C3AE-4826-A4FD-2F85D245B9AC}"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A6DA97-36FE-477A-9F16-4F7C3795E14D}"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1EFD8D-A984-49F3-88F1-37A570120D27}"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439AE3-88C5-4782-A4EB-63B10A0B6D30}"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7A5409-8222-4599-B8C9-BD4C838312FA}"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277905-40A8-4592-B0B6-320A028D0B10}"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9AF575-6D5E-4F61-A5F9-3FFED8DD2DC2}"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C08571-ADF6-4637-AA3F-D6D05AEF6CCE}"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923CC1-7F75-4B25-B412-6922F2172A97}"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09F920-7F9B-406F-B87F-24E879E004F6}"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63F154-6AA1-4CC6-AE45-72DDFFA1A8C9}"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5FDCFE-CCC7-401F-814C-E341322B5518}"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EE3925-B448-41AF-A14D-D4F02F47E490}"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A261292-A4A4-4624-9885-B91C297BE8A4}"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943247-FC2E-4370-B9A6-CEEC2F17CDD4}"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0C28CC-EA66-478A-B129-88E30D865D2B}"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650E2F-4CDC-457F-B38A-292FC915A1CD}"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525A1D-9B6B-4CB5-9DE8-AC8931D82E68}"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3421BD-8593-467A-8668-117ABF46BB2F}"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C1E6E1-D73F-4AE0-8011-C18DF39236A0}"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940882-D003-47E2-AAD2-162C98A0F405}"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F801F5-AE7A-4990-AF4C-469525E5DDE8}"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ABE090-EE6D-42FF-92D4-6E333395C8BE}"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DC7A9E-D018-4B4D-B9C6-E1D5EDDC6189}"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DF6455-4AEB-4E83-B430-698A02577CB3}"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1C13B4-876E-4071-86BB-B2BB76A2B6D9}"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4DB68F-F1ED-468C-85E5-1035C8368EC7}"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6A846F-F360-42B3-99ED-08DF681802FC}"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12498A-B6F1-4608-A2E1-70B947F978DC}"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6C44F2-DB45-45CA-8935-D6EDC53A4C60}"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664D1C-BDCC-4AD5-9C24-6BFDC7A8E737}"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4A9AEE-AAD6-4441-9ADF-4DD069632225}"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D1D3DB-F4C3-48B5-8D43-D3002ADE88EA}"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D1297B-E1A7-4B87-B85F-D5A011448B61}"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3B98C63-57EF-4BAB-8E7D-21D9CA58D337}"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D93280-1FA0-4F3E-932C-F03A78E6D541}"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F3CC6C-DBCA-468D-A9DF-A9420927008F}"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4190135-5EDC-488D-85E8-BD7D9CDBFCB5}"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F5DAFA-B01B-46AB-B8D3-B65F89761AAB}"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66D953-94FF-4BCE-A9A0-AB80C8A22C90}"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C544FA-E95E-4A1F-8204-995BAB11FAF3}"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FEAC42-B507-4D6B-B263-31B0EAAEC205}"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7CAE6C-07D8-44EC-BA97-86E3CE20502F}"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9AEE13-C68D-480E-AF24-858AEFD97F6D}"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7CEF42-AE0C-4F01-A4B3-55F59AE49AB0}"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827C1AD-94EB-4006-B0E4-50BAF8252482}"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9A4DE6-C6BF-4001-8D54-5ED96B0E480C}"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582179-2098-4B7C-8B9D-EC8147A9B52C}"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2D3374-EEBC-4D54-B0EC-EC77B920D77A}"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0C42B0-3DEE-4468-81E2-9CC22CF0A6CF}"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033D25-5F0B-4E17-9977-4A047E938A15}"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1435C2C-6C87-4257-AF61-C1997630B8C0}"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715FBA-0BA5-4495-892B-071BECBAF82C}"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AB02D7-D395-438F-BBA2-337C749263CC}"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FA12D1-0368-47F5-965D-25DD2D6EA59C}"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2EEC8D-B51C-4CFA-824A-1C923439527F}"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EC56C5F-EC97-4F65-8368-92B5DA819D55}"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E63F8F-3F70-4C94-9D9B-EA804CFA22E4}"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BEAD8C-3A74-4424-82F4-54634F324421}"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9006C0-CEC5-4841-87FA-7A43622D3D2B}"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A9EEC5-3D87-4DCC-9ED5-90AC0C68775D}"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A28F02-2F67-472B-8499-C23A652B7F40}"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A729D3-F72D-45A6-8AE9-B811C7F6E97E}"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A884F5D-2F77-4163-B40A-2C03D8A376BF}"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EBFB70-A775-4C82-A4B4-02BA1DEAEFAE}"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6ED4BE-0D3C-44DA-A422-44BE2F61FC70}"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FC5A26-8C44-42DC-B6EE-EAFFBD4FB4C6}"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5A7A666-903D-40B0-9EAC-26E1A83FA8D5}"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2BE452-CB44-41CC-B597-46223DC7D2F8}"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0B1186C-F405-4FB9-B13C-0E1FC7F7FA64}"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5E8AC2-5424-4860-88D7-1FE84663CAAC}"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295AF4-C656-47E2-9107-7909476ED380}"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828AE5-09B2-431A-AB0A-678074F6C461}"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041563-F7C1-4ADF-A077-8FB7DFEB33FF}"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FBC62E-3722-458A-9A81-7108E2EE06C2}"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6AD393-5E68-44AD-B790-4F47AB661F39}"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51BF33-1806-44F4-9E7E-3F3E378DE8FF}"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753FAE-CAB8-4ED3-86AD-6529DF657D42}"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4B3392-4304-49D7-A465-8E0DD99552F3}"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2E719C-B78C-4F8D-9BCE-938C49898D88}"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7CF6DE-B222-4EA9-9F99-29BF8862AB62}"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B00DC3-D6AF-4F37-AC81-2AAAC56B9E17}"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79CCF3-4F07-4792-9365-2096FDA97973}"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DD0CF4-30BC-4749-AD4A-6073090080E7}"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D9BF98-1D06-4443-A6C5-5ECE11323CAA}"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7FFD29D-17AA-49C5-BFD4-E2B29B2CF384}"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42DB17-A3FA-4FB5-B4B6-691BACAEA1F3}"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24D697-1250-4BDF-9421-90BB08328067}"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C7E438-7618-4800-AAC0-7954A64344B3}"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7A753E-88DF-43B1-8372-E980A9A3BD74}"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00BB67-8954-4B70-9C89-6B185BB387B4}"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34FC65-E02F-4AB0-880B-E70E0FE43696}"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116B0F-0835-465F-95F7-A65FBAE7E3EB}"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15C660-BF8B-48FB-9B8C-81B4FCCF810E}"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147D87-7535-4AEC-B803-4F74A6D7E8BE}"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7825CE-F2B8-4359-A138-71B19D123C2E}"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0B1EFD-27E6-4C85-9DE8-77ED8D9EADE5}"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7357E6-2080-46F2-88E1-6793F1C8E32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E55108-8119-4A33-BACA-E1EFB242774C}"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407BFF-804B-4451-BECC-ABDAD73645B4}"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2E2AC9-0CD0-4C48-AAF3-DCC53BC37069}"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4B5BBC-1047-4B0D-9B09-B34DBDCD192B}"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323DA0-062B-44D9-AFF4-5BA300A14D31}"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7FC9AC-CB4D-4D46-AF96-1082CADB98DA}"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A6C827-1794-4B66-A648-DDB1E8668777}"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6A695C-5DD2-4F65-9495-8F16E67EDCCD}"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D4CE53-8C4E-4C5B-B9F4-5A983A9C2667}"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BFE08C-6986-46A5-ACE9-30EE50209F2E}"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09830B-7A49-4961-8A5F-FC987FC37F30}"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6559E3-F80A-4D1D-914A-255E3C1F231C}"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9A0CEF-0032-4329-8585-D31676C319BB}"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5F187A-3EF3-43AB-9294-4E5BA71D8841}"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07E3E2-87F9-480B-95E0-FFB5CD5B00CE}"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B734F26-FEC7-41C3-860F-A628E8CE04A2}"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23C178-F228-42CA-BDD9-7D242BEC659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023B0E-FEB8-4744-854F-C8DF4D7BE0E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4BB10B-4E71-4B1B-9B00-C5C502B74E8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23A41A-A50A-45EE-BA77-FA83A229153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A7F34E-9129-4BA7-89F1-ED02DF62BD0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7EF7A6-C677-4F18-80F7-F54BEBD906E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B3C9603-C82C-4589-95D4-C8BAFFD618C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5CD1C4-6249-4697-89A1-084333863B9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59AE09-6A8D-4EBE-987D-A1ADA1FB231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6B5A13-534B-4CD1-A527-7E359ED4049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4164B0-EA4F-4497-987E-E200AFA896B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7D0F52-2E1A-40CC-AFAC-DE304A862D4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960DFA-4138-49E6-BFF9-AEC1B2E92AF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0DA83C-D0F0-4B9F-8E6F-AFD6A046AED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AD17DE-D8B1-411F-9FD1-6B9F040B6F1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C8A58D-062A-4686-9BDA-B8BD12E050D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075DC1-F36E-415B-A06C-DC19B309E8C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7CEEC0-CA94-46F0-8549-625AD04D4CF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BEEC28-D1DB-4F4B-BCB8-47DBA8AD6A2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8978B7-BB03-462E-9AC1-6E9667997B9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3D95CA-00CC-4BE8-9638-9AB954EFD66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4D8ECA-B907-4B21-823F-FED055F0B55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7505B2-AF65-4EB9-8B88-CDCF7210085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7C4825-4FB8-4132-9E14-1466F770007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8B05AF-4C6C-4368-BC69-8137C271124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3014DB-42D1-4E1C-9177-03F9743DD6D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173306-D768-4A67-A527-2F466D21321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1D0869-8C63-4FEF-93C5-0FD6057BCCA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135BFB-9ECF-4BF3-8161-2C9D80799C9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4C4220-097D-4129-9007-A7D9B4C954C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B71870-5963-4849-8B88-4EC8E4858B3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6A8AA3-D9DC-4BDA-B7B3-3C32EE97184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DC6C9D-E7CC-45D0-AF12-D6563859F20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353EF0-32CE-4AA2-8669-A9727B1AA39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87F1A7-CC15-4E07-BA35-FAECA7CC46F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2AB250-19D5-46E0-A029-B6A93BFB64D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96FED3-F2F3-44E0-97F7-2F61B946045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DE1EF7-2B1B-4863-9D52-12A538B1880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87E331-F1BB-4D57-AC5E-CA1DD8099D8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3E443B-B78C-4BB0-8A81-F4F74EF968B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854BA1-AA4C-4C97-BDFD-7C390D38B947}"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607598-08DB-4B64-9DC2-98659B633A7A}"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7053E9-002A-4375-B142-A3E0BEF43F2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4BC37B-646C-4C78-A142-A052F35E230D}"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4E170E-1E85-40BE-99FA-5160D5FDF09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B43E81-D3E7-41B5-BE32-E4C217B8D89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7E9232-8CF6-4230-9B8B-835D19CA5BD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9A86B1F-1A75-4371-81C6-49E7CE56666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A654BA-7EFA-40CB-83CC-D0BA5D24D9D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13B52C-9A1A-42DA-884B-0646F253149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40432A-02E8-4008-8DB2-2958D574C28A}"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690F6B-CF6F-4C34-893F-F64F91D1827E}"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B1BD3E-7DD8-4E27-80B8-EF581B6F52F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1BCBEF-428E-40A6-A4E5-258F21005476}"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3DE82B-030F-46C0-BC88-77B4D9A21AF0}"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E5FED4-C224-4286-A240-9560664670E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6EC3E6A-A9B9-4C23-BC79-8FC6F3F3908E}"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1836C2-875F-469B-B3EE-474F1DD65DC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7B1B59-9E5B-4027-B086-B6F46D295D9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38D4EE-6E7E-4225-AFFA-D0A780B1662B}"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50AC0F-FBE3-4A07-A292-73905C9BD51A}"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33A05E-6953-4B6C-B843-3ADA8C05B417}"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687FCE-DD59-48A0-A96D-B261329C135B}"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6E6A06-DA1F-42F2-B745-1346EB18A8A4}"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0CC1BE-26BC-49C8-B7B5-E223FCF29B18}"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71CED4-3AFA-48DF-9246-84DAF5E5A22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F7BC46-92E1-484B-908E-70EEC34B97C7}"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8356F0-4C2A-4E69-BADF-10523FE6E6F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C38B01-40FA-483D-9CF0-4000A2AD1578}"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87BC85-D8CF-4A2F-9CB3-5842E73E6AA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00C609-1810-4B8A-A248-B94652C38DE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A55D90F-A8E0-41F9-A698-402801D1D7A7}"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CE7231-D534-46CA-95E7-97D2803C500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E17FFA-7DA0-43C5-8C61-E690CB5F4F9D}"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1A9D72-2BA9-4885-9E43-AF8F75BCDD54}"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356D59-6EB7-4C7D-8CB0-43FD6ED0E959}"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6510EF-F870-460D-B583-353D46105D4B}"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F854D4-F50E-4A95-BB47-FA3B34C7F653}"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79C058-1E26-4D9D-9AFF-B3E146878C55}"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3C38AB-44C1-4B51-B810-0DD375E94B84}"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B88972-CAAB-4E1F-BED1-F6E08351D8C3}"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94E1EC-1EF6-4AB6-8C27-A31566287CBD}"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3CA4E8-776A-437A-BCD2-5A6EC60E11DC}"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973EA0-5C38-409E-A1A9-35BB06890008}"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048FDF-0EC0-4048-8B18-19BA881A94A9}"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