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50987"/>
        <c:axId val="59493202"/>
      </c:barChart>
      <c:catAx>
        <c:axId val="55250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93202"/>
        <c:crosses val="autoZero"/>
        <c:auto val="1"/>
        <c:lblAlgn val="ctr"/>
        <c:lblOffset val="100"/>
        <c:noMultiLvlLbl val="0"/>
      </c:catAx>
      <c:valAx>
        <c:axId val="59493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50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4E3-8E1F-4BE5-A715-CEA65981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0B0-C006-406A-8222-EA58888A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5F9-F6BD-403D-8BC7-2AD47587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3F0-4998-4F7B-BB56-DF63E582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288-2F62-4D5C-A741-E466F01D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9F5-339C-4619-831B-7C01998E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C76-93E7-4189-918A-94ECD5EE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B1E1-ED18-4F22-95AE-F4DD40DE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5AC-6FFD-4271-8184-07518923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F7B-491B-4044-82C8-30548730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8BA-BDC9-4104-A772-E68E6F0F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4B8-4C85-4C48-911F-7529BC1E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5AAC8-26AA-429F-8E09-77CFE183B2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