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760365"/>
        <c:axId val="29498998"/>
      </c:barChart>
      <c:catAx>
        <c:axId val="407603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498998"/>
        <c:crosses val="autoZero"/>
        <c:auto val="1"/>
        <c:lblAlgn val="ctr"/>
        <c:lblOffset val="100"/>
        <c:noMultiLvlLbl val="0"/>
      </c:catAx>
      <c:valAx>
        <c:axId val="294989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7603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AD89-75D7-4325-BDD9-B006A9542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432F-F24D-4F8B-A6BA-FC05CEA85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DDAD-90EF-4322-9DA7-70AFD21A8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9ECE-9252-4E5A-9F39-E6E2781F4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AB89-7971-4214-B1E3-08078C740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F979-EC00-4B67-9EBD-B440AF553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D06F-A3F1-4DAF-A520-20658EF2E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7DB5-5384-4CB2-8956-B4613C48D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F0A8-ACAD-4FEF-B0FE-CA082AA90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42C2-A012-454F-AC75-B7326F291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C0C9-5DDD-4D6C-A5FB-409744DDE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CEE1-24AB-4A35-873D-749BB4597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FF5D03-005E-4D9F-812F-34F61738A9D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