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30104"/>
        <c:axId val="12252852"/>
      </c:barChart>
      <c:catAx>
        <c:axId val="72530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52852"/>
        <c:crosses val="autoZero"/>
        <c:auto val="1"/>
        <c:lblAlgn val="ctr"/>
        <c:lblOffset val="100"/>
        <c:noMultiLvlLbl val="0"/>
      </c:catAx>
      <c:valAx>
        <c:axId val="12252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30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2B2-D22E-479D-9470-60389DE6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6B2-C1DC-48D2-AA29-722F485A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311-161D-4DE3-81C2-E42B220C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8C9-56EF-480C-9272-80EECBE6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455-397B-4E1E-A34B-EFA1B3A1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5E8-2080-495C-B892-23FAD333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81E-FE65-4BF5-AD52-92E0D5EE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2A5-2F02-47B8-B2CE-7A9FDB5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F89-3065-4747-90A9-5F95B418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4F0-0116-498B-B3B4-58DDBD8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C08-B344-444C-93CB-918AEAE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26D-9C50-4419-835E-9E3A610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ACA54-1A0E-4BAD-99FA-721CF33E01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