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92533"/>
        <c:axId val="55487740"/>
      </c:barChart>
      <c:catAx>
        <c:axId val="240925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87740"/>
        <c:crosses val="autoZero"/>
        <c:auto val="1"/>
        <c:lblAlgn val="ctr"/>
        <c:lblOffset val="100"/>
        <c:noMultiLvlLbl val="0"/>
      </c:catAx>
      <c:valAx>
        <c:axId val="55487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925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A73-1F9B-480B-B9DA-C66930B0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3603-DAC5-4445-A13E-A1A081DF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C953-BDD5-4E25-B53B-E4E99BA1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DB1-164E-402A-96E3-ED8047E9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5A5-3983-47F9-A9E6-8F7C5468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238-1C68-4332-85B5-C3D72AEC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9A3-6D39-4566-83F1-52F9730E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724-53DB-436B-801A-DD026B85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2F6-A2F3-423F-AD1B-705093DB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C18-3AC4-461F-9B01-0BE183FC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7FC-693B-4C32-A07E-6170BFC1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9745-496A-4E51-AEBC-D01AC645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890A6-C544-4538-8CB1-A30F231E70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