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1855"/>
        <c:axId val="94444857"/>
      </c:barChart>
      <c:catAx>
        <c:axId val="26101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4857"/>
        <c:crosses val="autoZero"/>
        <c:auto val="1"/>
        <c:lblAlgn val="ctr"/>
        <c:lblOffset val="100"/>
        <c:noMultiLvlLbl val="0"/>
      </c:catAx>
      <c:valAx>
        <c:axId val="94444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1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493-B6CE-49AF-98CD-6858AB0F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BE9-9AE5-4216-AA23-06DBE867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804-39C4-4D01-BCE3-2F2407CE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D0B-5666-4F91-8499-DE372990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CFA-9572-4333-B758-9898D548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E21-BEE2-4ED3-9FEB-CEFEA46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A7E-B532-458A-AC82-B9A8B2F0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004-F938-4A74-98BC-95C1069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D62-2D09-438E-BEBA-320C371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8AE-FD2B-4282-A9F7-11D6E90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937-FFE5-4207-B1CC-AA54E0A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994-ACEA-4171-B98B-FE0499F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DA3D8-D532-4461-92F3-98665BCF1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