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97203"/>
        <c:axId val="87131653"/>
      </c:barChart>
      <c:catAx>
        <c:axId val="81297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31653"/>
        <c:crosses val="autoZero"/>
        <c:auto val="1"/>
        <c:lblAlgn val="ctr"/>
        <c:lblOffset val="100"/>
        <c:noMultiLvlLbl val="0"/>
      </c:catAx>
      <c:valAx>
        <c:axId val="87131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97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2D6-A25A-4292-A69E-6F66B036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8A5-B7E6-48CD-B18C-51E75E5E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A0B-C275-41F3-84E9-A2395758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91D-BC67-4A31-A25E-11727419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30D-4791-4F0D-B42A-DB24A9AB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31E-4A1B-412F-BAF2-ED36CC99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DC7-D2B5-42AB-979B-4F945B2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90F-C4F4-4A17-BE37-E54C4FBA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D10-7F2B-4513-BCE5-F519DEAB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301-B9B6-4CA1-8D1F-D6FE584A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E00-0705-4E6A-AA31-4F6D7DA2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353-4EC3-4BED-9651-9A5E6FB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39D91-D830-4FF0-BED1-8524F75F82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