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30106"/>
        <c:axId val="23282722"/>
      </c:barChart>
      <c:catAx>
        <c:axId val="37030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82722"/>
        <c:crosses val="autoZero"/>
        <c:auto val="1"/>
        <c:lblAlgn val="ctr"/>
        <c:lblOffset val="100"/>
        <c:noMultiLvlLbl val="0"/>
      </c:catAx>
      <c:valAx>
        <c:axId val="23282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30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543-58BE-46B7-A581-ED4B5902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860-CA14-47A7-9303-017C2FBE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064-9390-48BD-900C-E4633417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1B0-23FD-4638-AC19-6A218D85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7FD-5D81-4D8B-927F-82EA7691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970-CA6A-4740-8800-A2191C7B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462-F452-4B4B-A619-C2028FE4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85F-D491-46CA-B2BD-6E0DE28A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347-9432-46A0-9602-F331152C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424-97AE-4BF2-9B5D-1541AE8F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72E-598C-4156-95FB-27829D8C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894-1506-4397-A019-69461DCC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5C3BD-33AD-445D-A213-15F8529158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