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74916"/>
        <c:axId val="33825850"/>
      </c:barChart>
      <c:catAx>
        <c:axId val="82474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25850"/>
        <c:crosses val="autoZero"/>
        <c:auto val="1"/>
        <c:lblAlgn val="ctr"/>
        <c:lblOffset val="100"/>
        <c:noMultiLvlLbl val="0"/>
      </c:catAx>
      <c:valAx>
        <c:axId val="338258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74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E03-DCA1-4269-9D43-898C71AE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6AA-C7B2-4920-8EA2-912E11F2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563-554C-4851-AE3F-105164E3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1BB-53B4-4A4E-9F86-D0CC09FD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F38-3E3A-498D-8536-71A64541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907-AEEB-47B6-B5AD-7956F42F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F11-C2DF-4E30-8A41-76D9FDB3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BE9-FE87-4ADC-BA06-2BE96A04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F0DC-1D98-4165-AE9C-A977E2D7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073-25CC-4957-9F60-6D63D666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BF1-BD60-47FF-A10D-0316FA07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078-1C99-4FB8-B68C-024CD6E1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20718-1357-4B41-86FB-544C751347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