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53486"/>
        <c:axId val="28485182"/>
      </c:barChart>
      <c:catAx>
        <c:axId val="96453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5182"/>
        <c:crosses val="autoZero"/>
        <c:auto val="1"/>
        <c:lblAlgn val="ctr"/>
        <c:lblOffset val="100"/>
        <c:noMultiLvlLbl val="0"/>
      </c:catAx>
      <c:valAx>
        <c:axId val="28485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53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2DB-EECC-4872-A892-6CB8F011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078-1B92-444B-8A64-B678097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656-987D-4275-B994-092D588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66E-D006-4281-89A7-6F8CCD2C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4EC-2B30-4034-87D3-46519CE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B49-75FE-4D3F-B51B-C53322D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FC7-E026-4BB1-8E18-CFCCF63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D1E-182C-4F94-B08A-0AB7FAC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E4C-CAFA-4A26-871B-87E66E0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8BF-20F7-4F1F-B104-DB4B8B4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BB3-C0AF-45D7-BC90-5A57BC0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47F-0478-44BD-8325-B40FE30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C61D9-1F86-4346-B6F7-9C45DFC5B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