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07668"/>
        <c:axId val="20368697"/>
      </c:barChart>
      <c:catAx>
        <c:axId val="3907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68697"/>
        <c:crosses val="autoZero"/>
        <c:auto val="1"/>
        <c:lblAlgn val="ctr"/>
        <c:lblOffset val="100"/>
        <c:noMultiLvlLbl val="0"/>
      </c:catAx>
      <c:valAx>
        <c:axId val="203686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07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0A96-BFC8-43D3-A0D3-665517DA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98900-084C-4E7C-94B4-D89A0EC95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5C2D-C852-471B-BA35-7A2CB9312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B1FF-56EB-4CC8-B886-E69CB10D7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F5C0C-96EC-4738-8F55-5098886C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8949-BAB6-44BD-BCD6-1A6829DF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CCF-FA0E-4C2B-B677-FAC8AB244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8930A-1B3F-4578-9365-824C0683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C87F-2BA7-49CC-968F-998E113D5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924A-514F-4AE4-A988-F030B7B79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031-4AE8-4DC4-A979-2DC29674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6B6D-9C7E-4570-90D9-16FCC2E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851894-E086-4030-8701-5090FD2FC6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