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26684"/>
        <c:axId val="29202795"/>
      </c:barChart>
      <c:catAx>
        <c:axId val="44326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02795"/>
        <c:crosses val="autoZero"/>
        <c:auto val="1"/>
        <c:lblAlgn val="ctr"/>
        <c:lblOffset val="100"/>
        <c:noMultiLvlLbl val="0"/>
      </c:catAx>
      <c:valAx>
        <c:axId val="29202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26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55A-7CF9-43EA-B72D-B876E95D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6FA-72BA-4B78-A095-CA808D96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3D6-3138-41D6-A89D-F075A952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B89-E977-4B4F-8C47-5051A907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C06-0D6B-4834-8EE8-F97325A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194-A479-4549-87E9-7BBE497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061-7098-48FD-9106-D29B8507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EB7-80EB-4A67-818F-F62535DE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9E2-42AA-4E73-9475-0CC577E1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9D2-7139-4FFF-8FC6-3648B13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9BF-6332-4743-BDA9-66A75F3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BB6-A88D-4707-9EB0-8471037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E0A0A-8085-4516-97E5-BF913AB09B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