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61775"/>
        <c:axId val="43309178"/>
      </c:barChart>
      <c:catAx>
        <c:axId val="74461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09178"/>
        <c:crosses val="autoZero"/>
        <c:auto val="1"/>
        <c:lblAlgn val="ctr"/>
        <c:lblOffset val="100"/>
        <c:noMultiLvlLbl val="0"/>
      </c:catAx>
      <c:valAx>
        <c:axId val="43309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61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C20-EF14-4BAC-B0A6-B4449A1A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669-A8B8-41F4-A704-3DF9B826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51C-561C-4579-B3F3-FC0CA824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EE0-607C-40CC-A199-3420FBAA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B17-B8E4-44B6-99C8-4713E4AB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968D-1F92-4F13-B054-450DD7C4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DEF-B672-4AB1-9773-34F13E42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A97E-F991-46C6-A401-2E448303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6D8A-7ADB-4165-BECA-FFA268E1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2C4-839E-4A59-9920-C5067E6F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124-F258-4C6D-A5B3-A899EDAC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257-AC1F-4BEF-A2A9-C6EF4C86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3E168-E463-4C69-B731-BEDC098731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