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98782"/>
        <c:axId val="26175741"/>
      </c:barChart>
      <c:catAx>
        <c:axId val="38898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75741"/>
        <c:crosses val="autoZero"/>
        <c:auto val="1"/>
        <c:lblAlgn val="ctr"/>
        <c:lblOffset val="100"/>
        <c:noMultiLvlLbl val="0"/>
      </c:catAx>
      <c:valAx>
        <c:axId val="26175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98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EF7-3532-4447-B827-733AB05E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54B-CE49-4F48-A4CC-17860094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BB1-3204-4D90-8E00-AF64688E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F84-BC06-44A9-A36F-DA8670F2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E85-CC6D-48CB-B909-88287672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402-ACB0-4B94-83C0-E3611E76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5A0-1B9C-4BD2-8BF9-B7F9B418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109-AA68-481F-8D22-FBF06451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1F0-59AC-4878-88B0-3B65FB2A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801-FE7D-46D9-8C85-C0FC871F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492-4FC1-47ED-9F70-B0BCF801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AED-7655-4FB1-9D08-E5298B3B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6DC63-CC0C-4DBA-BB78-F1040D52E8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