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642080"/>
        <c:axId val="3529934"/>
      </c:barChart>
      <c:catAx>
        <c:axId val="766420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9934"/>
        <c:crosses val="autoZero"/>
        <c:auto val="1"/>
        <c:lblAlgn val="ctr"/>
        <c:lblOffset val="100"/>
        <c:noMultiLvlLbl val="0"/>
      </c:catAx>
      <c:valAx>
        <c:axId val="35299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420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358-00F2-4E70-AE02-498159BC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CD2-BB5B-4C44-B1B5-D6E9EF0D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3CFC-63F8-4F26-A69C-54E99C29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C15-FC24-4CDD-BADA-14FC5851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5AF3-B89B-4DBC-A1FC-72A755D2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C89-5EBF-4B3B-B605-8DA42998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ABC-DA0A-4134-AD37-B3C58242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87E-7BA4-4D2D-A6BC-DA33C374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74F-184D-4AA0-AA11-A415EBE7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CDDF-45C8-475C-BA92-5176D85F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194A-64B6-41B5-B253-1680E62E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6B54-1759-41ED-9900-29E7C337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323CA-1FA9-4EE9-B60A-7AC496196D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