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24794"/>
        <c:axId val="66216559"/>
      </c:barChart>
      <c:catAx>
        <c:axId val="7982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6559"/>
        <c:crosses val="autoZero"/>
        <c:auto val="1"/>
        <c:lblAlgn val="ctr"/>
        <c:lblOffset val="100"/>
        <c:noMultiLvlLbl val="0"/>
      </c:catAx>
      <c:valAx>
        <c:axId val="66216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2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AD4-DA7A-4755-81EC-1F8C0D2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B18-D6F4-4ED4-83AC-896627B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920-D3D0-456B-B118-1D4D51B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516-80D5-43D0-B36C-09E2A553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AC2-20CD-44B9-B9CE-3DA1363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703-0FDD-431F-A04E-90CB371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C0E-9560-4674-9D55-AA2EC812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191-BC7E-4AE8-8AAA-A0A82A5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A4F-C6C0-4D44-99A9-C21509E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494-132F-401A-B3A1-28EB0AA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DF7-791D-4974-8918-CB61E91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F6E-1A4A-4412-BFC3-2AB046A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D1BD-E321-4FAD-881D-2AE48D10C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