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16767"/>
        <c:axId val="49654387"/>
      </c:barChart>
      <c:catAx>
        <c:axId val="854167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54387"/>
        <c:crosses val="autoZero"/>
        <c:auto val="1"/>
        <c:lblAlgn val="ctr"/>
        <c:lblOffset val="100"/>
        <c:noMultiLvlLbl val="0"/>
      </c:catAx>
      <c:valAx>
        <c:axId val="496543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167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7C2-CFE7-438F-A1B4-59E6B5F2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10A-E117-4078-9BE8-B45675B7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A1B-A3EA-4DC1-8301-4DD9D760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4594-8467-426F-A718-FE49062C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078-2FF9-44E2-93AC-C234C366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082-B041-432D-A02C-454AF5E3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FAB-31F0-4237-B2FF-4119A6FB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57D-6BDC-4C77-9E30-0B6D0F64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D6D-348C-4D02-96BB-70B975EF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4AE-A001-40DA-9112-26877B79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4BB-7472-4397-9FE8-3F9E0D9B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731-8F10-4922-8376-8FE26978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7D4F7-DC50-47DE-9585-C81E8963AE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