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64732"/>
        <c:axId val="41338103"/>
      </c:barChart>
      <c:catAx>
        <c:axId val="34564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8103"/>
        <c:crosses val="autoZero"/>
        <c:auto val="1"/>
        <c:lblAlgn val="ctr"/>
        <c:lblOffset val="100"/>
        <c:noMultiLvlLbl val="0"/>
      </c:catAx>
      <c:valAx>
        <c:axId val="41338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4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F3E-FFE1-45B1-BCB6-E605FF8F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A65-5257-42DF-B5BB-08ADAF8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FC0-B508-4553-8456-CA5FC344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B26-624E-4E68-8B39-F8F7DCB4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FF5-EAE5-48BA-8346-9A51573D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87B-E81A-49DA-BCAE-B95F55A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233-8039-4851-B7BC-9FEA917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64A-F8FA-49C3-9C7A-31FD3BB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53B-F130-448F-9863-D3575ED7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68C-70CC-4745-BD72-794FBEE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C0C-ECED-4B4C-968A-6930F0E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92C-B0EA-49FD-9C51-2CBAB88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EA92-1780-4394-A487-FCF90CB9F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