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91270"/>
        <c:axId val="19952995"/>
      </c:barChart>
      <c:catAx>
        <c:axId val="15291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52995"/>
        <c:crosses val="autoZero"/>
        <c:auto val="1"/>
        <c:lblAlgn val="ctr"/>
        <c:lblOffset val="100"/>
        <c:noMultiLvlLbl val="0"/>
      </c:catAx>
      <c:valAx>
        <c:axId val="19952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1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9F4-31DB-4035-85CB-C66E1142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F90-E191-4297-BFF1-0C659BA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ED8-8C8E-457E-A68D-D7A17EC3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1A0-22D1-4A87-A338-61247908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CC5-EDD0-494A-929F-5EA26A9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DAD-0CB6-47E2-8266-0C299F96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CCD-3547-47AE-B650-712DFA1B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D79-9DFD-48C0-898D-1439F59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7A3-0A78-4793-9794-220A5C4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D9B-6614-4179-A02F-EF0C5F5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BA0-B87C-4AF5-AF42-6E6E207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B64-12F0-4715-801E-8A70FEA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1873-200E-41CD-AAC3-0743A4161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