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01100"/>
        <c:axId val="62039482"/>
      </c:barChart>
      <c:catAx>
        <c:axId val="17901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39482"/>
        <c:crosses val="autoZero"/>
        <c:auto val="1"/>
        <c:lblAlgn val="ctr"/>
        <c:lblOffset val="100"/>
        <c:noMultiLvlLbl val="0"/>
      </c:catAx>
      <c:valAx>
        <c:axId val="62039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01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DE6-AA3E-405C-B376-01ED2891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D61-BDBF-46AD-8E60-0C9905C1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983-CF86-4933-BFC2-3EF2134E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D73-D7FC-482C-BDCD-9A66B6A2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871-45C7-40FD-9519-E9840ED4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57D-77FA-4B89-9F3A-8DC8641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BE6-68DC-4D43-B374-FBE54BB5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1B0-A387-4E6B-B748-840F9263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717-CE4E-4495-AEB2-CE62A5B6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166-2685-473C-825E-FD63DE53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78B-9CE2-4432-8DDC-E6ADE58C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94F-FD94-402B-AD5D-1E733A2C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23132-13CB-4B9B-B950-D4C6BC2218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