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28651"/>
        <c:axId val="50213325"/>
      </c:barChart>
      <c:catAx>
        <c:axId val="84828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13325"/>
        <c:crosses val="autoZero"/>
        <c:auto val="1"/>
        <c:lblAlgn val="ctr"/>
        <c:lblOffset val="100"/>
        <c:noMultiLvlLbl val="0"/>
      </c:catAx>
      <c:valAx>
        <c:axId val="50213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28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9EB-8787-4428-9A23-0A0F78E9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FAD-D170-49D5-B001-7FA1BA12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AB4-5D78-4818-A944-02822864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FDA-BC94-46FE-8C47-40FE9042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33A-E3BE-4B12-BD4E-597A7228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E36-586F-4E0A-91D2-159B45E7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836-81E6-4006-9072-9CCC2963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802-9351-4BC8-90B1-EAC469E1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548-3F76-4B1F-A725-3A799AC7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C74-330E-4D15-AC60-0492BAB0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933-86C5-4F72-A36C-433F6A7F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9DB-17DD-4EBD-BDE7-AA61E67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74C39-AA1E-4BDD-8453-DD60A06459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