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9964793"/>
        <c:axId val="63003497"/>
      </c:barChart>
      <c:catAx>
        <c:axId val="3996479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003497"/>
        <c:crosses val="autoZero"/>
        <c:auto val="1"/>
        <c:lblAlgn val="ctr"/>
        <c:lblOffset val="100"/>
        <c:noMultiLvlLbl val="0"/>
      </c:catAx>
      <c:valAx>
        <c:axId val="6300349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96479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482C7-1C75-4C49-AABC-C472278CA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B7305-4FDC-4558-BF59-17DB216AF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33298-766D-4A13-94DB-789883794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4DCBE-33D6-4B6E-AD87-E6903B139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BA9FC-95A6-4A9C-8158-05EB06228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E7ABF-1D78-4444-A72C-901ECD86F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C0F9A-21AF-46A1-9978-7B2A9E8A6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930D9-96F5-467F-9C70-BC5CFACC1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DF6A3-C3EC-4BB0-A6DA-5C88ADFA7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B7FCE-6E38-4A45-9E4C-06EA0C116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52029-5E9D-46DB-A0BB-85FBA9C1D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D4590-D91E-4B5D-9B08-4798F105C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53F68C-6E80-4BA8-B369-6C91414D860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