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7545"/>
        <c:axId val="9340343"/>
      </c:barChart>
      <c:catAx>
        <c:axId val="5817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0343"/>
        <c:crosses val="autoZero"/>
        <c:auto val="1"/>
        <c:lblAlgn val="ctr"/>
        <c:lblOffset val="100"/>
        <c:noMultiLvlLbl val="0"/>
      </c:catAx>
      <c:valAx>
        <c:axId val="9340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7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FA5-2759-4F6C-83BF-ECCBD10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507-81F4-4BCA-AEEF-1241589C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036-FB5B-417F-AA19-AFAD4701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36A-88B8-443D-A60B-BD6AD1FC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DA5-89A9-445E-B803-51C8FEE6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CA1-F142-4FA4-B9A7-797B4E1F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670-4326-4CEE-81B0-F7E9C69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8C4-5B27-4349-A0F5-706E2C7D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94D-0D8D-4125-97EE-8DD582E7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E04-BFD4-4604-82D7-D23E8F8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EB2-B25B-47F7-8482-00CA589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9E3-F1C3-4521-A97A-D2B28F2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2F9B3-B2C8-402A-AD16-FFB6FB0B0B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