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00335"/>
        <c:axId val="91899782"/>
      </c:barChart>
      <c:catAx>
        <c:axId val="290003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99782"/>
        <c:crosses val="autoZero"/>
        <c:auto val="1"/>
        <c:lblAlgn val="ctr"/>
        <c:lblOffset val="100"/>
        <c:noMultiLvlLbl val="0"/>
      </c:catAx>
      <c:valAx>
        <c:axId val="918997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003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DF15-F38F-4AE7-9222-75EDC4C1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56D8-FD8F-41FF-894D-3EB52881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F941-9065-4B7D-A9FA-F0C30C6A6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D487-9B87-4774-97C7-04195765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2B2B-C7AF-4C14-92FC-D53C4EE5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FAF5-BCAC-42AD-BA7C-AB1D57E3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9374-EF70-469E-9833-0E406C08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1470-9236-49E0-ACF3-F51C39A8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0B4C-D337-4611-8FE8-85064725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C558-29E2-4864-8499-87304290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B7EB-CF8A-4EC7-9808-DCBA7514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BF6B-EFEB-4711-B3F4-E0376106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4B9AF-EAEF-462A-B133-1945617648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