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58827"/>
        <c:axId val="33675003"/>
      </c:barChart>
      <c:catAx>
        <c:axId val="96158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75003"/>
        <c:crosses val="autoZero"/>
        <c:auto val="1"/>
        <c:lblAlgn val="ctr"/>
        <c:lblOffset val="100"/>
        <c:noMultiLvlLbl val="0"/>
      </c:catAx>
      <c:valAx>
        <c:axId val="33675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58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5B6-9ACF-4275-8406-BCFDE606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269-DF98-4D52-85BF-2F54952B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4F1-9070-43E9-A54B-EC505745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B25-3E46-4DCA-A9ED-EEDADCBB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F13-3AE2-4756-B384-2039DAD8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BF8-3055-4445-91BD-F49FD81C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F1F-4E1D-4C1D-8ABC-54E2FA91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817-5BF9-449D-9E2D-25753CCC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FC4-A0DB-4C2E-9C0D-8F168BA2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0F0-FDC2-4769-AB6F-2FBBE9CC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19C-C85B-46E9-BB80-AC66E7D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106-D1C5-4838-A494-8CD6296A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E9415-E690-4797-BE39-A141ADC1C7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