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8658"/>
        <c:axId val="26719203"/>
      </c:barChart>
      <c:catAx>
        <c:axId val="5498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19203"/>
        <c:crosses val="autoZero"/>
        <c:auto val="1"/>
        <c:lblAlgn val="ctr"/>
        <c:lblOffset val="100"/>
        <c:noMultiLvlLbl val="0"/>
      </c:catAx>
      <c:valAx>
        <c:axId val="26719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8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446-D5E9-4D4B-B002-2E661E50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9C7-A057-4D22-B8F0-0DE0B314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FBE-FC2A-4398-A04C-6EF3B3DB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6CF-A261-4791-B8AA-A428761F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B4B-A79E-405B-9A59-0146FFCF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6FC-B3A7-4E7B-90C1-7C6EAB15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D45-10B6-49E4-868B-3FAB94F0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FF3-DDA1-4550-B2F1-7539CA5C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4FD-2FC5-4643-B406-C3AFD3F8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BBC-8BA2-4594-8134-DD2B3E58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155-D363-4A77-ABFA-AD86B11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566-62C9-48C1-B34E-93721110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ABFAC-824A-45F9-B969-AE52D80F65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