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75257"/>
        <c:axId val="11898032"/>
      </c:barChart>
      <c:catAx>
        <c:axId val="21475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98032"/>
        <c:crosses val="autoZero"/>
        <c:auto val="1"/>
        <c:lblAlgn val="ctr"/>
        <c:lblOffset val="100"/>
        <c:noMultiLvlLbl val="0"/>
      </c:catAx>
      <c:valAx>
        <c:axId val="11898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5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121-F852-429A-88E3-81879E19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79E-F932-42FD-AD8F-8D7D4C1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31A-B93C-429A-A44F-D32FE489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48B-99EB-4C59-A3C7-B4E13D18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58D-B7B0-49C2-86BC-3356F9E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126-5E9A-4FE6-9563-5AA28C10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9D3-9C17-4183-AEA2-5BD3E88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7BD-108F-4037-8A74-753E935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625-DF1D-4BE3-8F1C-3334262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6C4-59B5-4B51-BB19-3ADAA20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170-67B8-43C8-99C7-D367698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C6B-3931-4E91-A9C7-509CADD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FFA8D-4BFF-433B-9B9F-5E1661DFE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