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78513"/>
        <c:axId val="25929332"/>
      </c:barChart>
      <c:catAx>
        <c:axId val="84478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29332"/>
        <c:crosses val="autoZero"/>
        <c:auto val="1"/>
        <c:lblAlgn val="ctr"/>
        <c:lblOffset val="100"/>
        <c:noMultiLvlLbl val="0"/>
      </c:catAx>
      <c:valAx>
        <c:axId val="25929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78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E69-D00E-4921-9296-3079446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6B2-DAB3-473B-932C-4BF4ACF9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EDF-0736-445B-8356-7110FA55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A60-CA52-4502-8BF4-612C5CDE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C16-1C6D-475B-AB0E-329C1802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FD3-59CA-4933-B9DD-F2E12038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EACD-89FB-49A1-A1EB-FF23746B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61A-4A2E-4D6E-A79E-CC4B584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8C83-51E8-4E91-9C90-91FE1F4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328-8439-4E37-936B-C1FB5950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B6E-A3A0-4868-A9D3-AF70E1CF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23E-6EFA-4D54-A383-125D3FFE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42D17-CCA4-40B2-B1B9-6630D0B68E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