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34502"/>
        <c:axId val="557059"/>
      </c:barChart>
      <c:catAx>
        <c:axId val="34234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59"/>
        <c:crosses val="autoZero"/>
        <c:auto val="1"/>
        <c:lblAlgn val="ctr"/>
        <c:lblOffset val="100"/>
        <c:noMultiLvlLbl val="0"/>
      </c:catAx>
      <c:valAx>
        <c:axId val="557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34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21A-6FF2-4830-8E01-0AE5F8AC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4AD-9BB5-4379-89E0-F8658D0A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607-5181-43DD-81A1-143F860C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9F8-DF13-421E-B46D-3620EAE2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D29-DEFF-40D8-AD56-BB9C8063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3F1-93AC-465A-BAC0-7774D9A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88E-50CB-44BF-B6A8-287CD23F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09F-0908-497B-95E9-AE723E1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194-28FB-4753-989F-C9E4C128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752-9CF3-4E79-9C04-F03B1B0E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BC8-B2CD-4B29-B003-25EEEF94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164-EF1B-486F-94AD-30D15C8C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20551-478D-423C-BFEA-54E89A5694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