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18451"/>
        <c:axId val="15573479"/>
      </c:barChart>
      <c:catAx>
        <c:axId val="50418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73479"/>
        <c:crosses val="autoZero"/>
        <c:auto val="1"/>
        <c:lblAlgn val="ctr"/>
        <c:lblOffset val="100"/>
        <c:noMultiLvlLbl val="0"/>
      </c:catAx>
      <c:valAx>
        <c:axId val="15573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18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E82-F6F4-4C83-9456-41649973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D38-B4D5-4ED9-8D7A-D18D3967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DAB-C638-4BA8-AEBA-2ED157F4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82C-DCFE-4C29-BBA9-68268507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CCE-66EE-4093-8024-03E2626C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171-F6BA-4D50-94BF-A8FB5630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704-1B08-44C2-8DE5-69F145C4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2F4-798B-4C97-B748-FB9A39D5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536-7F4C-4EF2-A9EA-873D496C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458-24D8-407C-9396-B4DA11FA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84C-6092-4193-B3C8-8456B510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0EF-98CB-4647-B2CD-E2C34117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5F977-682D-49C8-9F9E-D64203E13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