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202788"/>
        <c:axId val="58802706"/>
      </c:barChart>
      <c:catAx>
        <c:axId val="602027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02706"/>
        <c:crosses val="autoZero"/>
        <c:auto val="1"/>
        <c:lblAlgn val="ctr"/>
        <c:lblOffset val="100"/>
        <c:noMultiLvlLbl val="0"/>
      </c:catAx>
      <c:valAx>
        <c:axId val="588027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027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E629-A955-4268-A42F-D35CA5FA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053E-5E77-47B9-B131-AAB24AA2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968A-1CAF-4690-B634-9E6F5107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E671-4190-4C17-85BA-26E48F31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A684-B32A-44E1-9832-8B487348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7127-11F8-4C14-9CB7-19D83D7F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BC0E-7FF5-4F6D-AC99-604B3FC8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77B3-9438-4007-8D3D-4E925B78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0DC3-1098-42CB-AC2F-8836AAAC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E8AE-AF69-4FDB-9C05-B78A200F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CB97-A3BA-48D3-896D-18E12EED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A5B9-4F37-4D55-A8E8-49E707E9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99EBE-5383-4EE8-B2AC-3397B3E31A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