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09682"/>
        <c:axId val="71498545"/>
      </c:barChart>
      <c:catAx>
        <c:axId val="53509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98545"/>
        <c:crosses val="autoZero"/>
        <c:auto val="1"/>
        <c:lblAlgn val="ctr"/>
        <c:lblOffset val="100"/>
        <c:noMultiLvlLbl val="0"/>
      </c:catAx>
      <c:valAx>
        <c:axId val="71498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09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0D02-7C01-46CD-A875-279FAF6D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17B-C97E-4119-BE26-EBD58604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7A4-7552-4991-BCAD-1B2B78AB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025-C9C4-4D97-8BE2-7138C69C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91A-D0EE-4616-A950-36ACE570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764-38FA-41C1-ABF5-E3808166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A1D-FD38-467A-8713-8ABE8ABE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4DE-1826-4115-B901-18803DFB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7D6-72C3-4840-B024-01B0F748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D63-7FFE-4F80-9D73-1E15EBFD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591-CE1D-4045-AB79-E22C0A3D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5F6-84EB-4465-B060-B97DC98A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B2908-A318-4E06-A9B0-1072231899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