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680735"/>
        <c:axId val="44297372"/>
      </c:barChart>
      <c:catAx>
        <c:axId val="826807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97372"/>
        <c:crosses val="autoZero"/>
        <c:auto val="1"/>
        <c:lblAlgn val="ctr"/>
        <c:lblOffset val="100"/>
        <c:noMultiLvlLbl val="0"/>
      </c:catAx>
      <c:valAx>
        <c:axId val="442973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807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8E41-9FAD-4E6F-B7CE-D4C102CC1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98CB-0C16-4C85-A694-25AD0B11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9344-646F-4594-A5E6-E8BB38EE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02AC-C333-4664-AC8B-0B8C79591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3200-D68D-45FD-9D52-7DE0CA9B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BD8C-3F43-494A-A3A2-DF22EE77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859E-0DB3-4D63-AB5B-A4D63E13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5C86-86DB-458A-82DF-F8FFB4D9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60A1-04F9-4E49-ABE6-6576E46B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73C8-9310-4A85-80D6-5C7205C8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2DDE-391F-4C55-8B0D-CA248DB7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E6F3-D5B5-4930-859B-795E7B5E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524AB-0194-45E9-815D-2A8994F1C5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