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49023"/>
        <c:axId val="91836302"/>
      </c:barChart>
      <c:catAx>
        <c:axId val="77649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36302"/>
        <c:crosses val="autoZero"/>
        <c:auto val="1"/>
        <c:lblAlgn val="ctr"/>
        <c:lblOffset val="100"/>
        <c:noMultiLvlLbl val="0"/>
      </c:catAx>
      <c:valAx>
        <c:axId val="91836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49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730-58A1-4687-9F90-9F3C8F98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1DB-A178-4CAA-AC9F-8EEF5F2F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F55-B6B2-4B49-BA17-A6DBE71B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B74-2EA9-4792-A106-40E57E02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F72-56C6-478E-9D43-97D547C3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C08-06B8-4214-86B9-E1BEE320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85E-C0CE-499D-A019-E91E0F73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260-B233-4F8B-9AA7-C4A3EF24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B24-487D-4803-BEB4-47DF592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76D-EE30-4695-B7FF-2A2CF9E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55F-79C0-4073-9ECC-306F3D8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319-8731-4769-94CE-D260450D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7CBCE-A9C4-4EB0-9DBD-4E481DBBA0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