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42363"/>
        <c:axId val="55130048"/>
      </c:barChart>
      <c:catAx>
        <c:axId val="65442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30048"/>
        <c:crosses val="autoZero"/>
        <c:auto val="1"/>
        <c:lblAlgn val="ctr"/>
        <c:lblOffset val="100"/>
        <c:noMultiLvlLbl val="0"/>
      </c:catAx>
      <c:valAx>
        <c:axId val="55130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42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ED7-F325-43B5-B243-FF6EA7A2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75A-40FB-4EF6-B8EF-E6AE55D7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C42-9D79-4939-A4D3-B83F618E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194-920D-4FA7-BF99-9B9F3D67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8DB-960C-467E-AA6A-FE5873D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98A-0DD8-4740-8C44-7FF07E6A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D62-60A4-44C7-95D5-2C599C24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8AA-BBEB-4FE6-BCA5-34133AEF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48E-081A-4515-A4FE-4019E76D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713-87C4-4FA1-A1D5-73F7B9A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78F-8594-4664-9D9E-72C98B3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1E3-DF1E-4C8A-8FE6-4C797779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7082D-FE3E-4CB9-9388-43E173D78A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